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49480" y="0"/>
            <a:ext cx="2943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0" y="9408960"/>
            <a:ext cx="2943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4948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88DCF-7904-4F51-AF69-34BAC3B6464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C6BF2-C884-4FF2-9D68-A331C5247B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F825F-1A54-462B-AFF3-D536BDBA7E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65F99-C1E4-4C87-B92B-D9B93C0C7D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7A543-2924-4769-B8B9-913F590874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964A2-12CE-4E87-BB49-63048A61F4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71C06-A7F1-45D9-B4F0-6AD9F59A98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F2280-A133-4792-8D69-49235938C9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BF52A-0DAB-4F6B-ACBB-FEB122206E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33906-A688-4BE9-86E8-BD20E5A585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F1DB3-5282-4DF1-9847-B322B03295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7E2FC-8C09-45E3-836F-25D0CDC924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4B40E-A1B0-44EA-8E87-BEAC06A8D5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9AE92-1220-4647-ABD9-71CEE61D8E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31AA0-D040-42F2-B354-6E9CD2AF92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0ADEA-70B4-4DE1-A92B-F8191F9205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6F7EE-D23A-423F-BF89-3E6794C66F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C4DE-408A-4163-BD10-3232887C6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8706-9B1C-4888-B33A-55358876F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11A2-4E8F-4E70-A8B9-C0144151D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79E1-94FD-4B32-AE2E-80625C374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07BA1-375D-40F3-B72D-D04D44B16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00C18-C8B4-49BD-BEF0-99755BB37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79C43-E4A4-47C1-B105-0D309B84A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E4FD8-7000-42B3-B987-2078F9ECC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0F7D4-E703-47FB-90D5-17EA1C05A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78A7C-7678-40F7-AA3C-6845353BC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CE893-85C7-45E2-A27E-1187D959C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ED0E-8B1E-4205-B8D7-E39C46E88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4606E-2296-4EA6-8DFA-D7CDA0761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6B6B2-A136-47A4-BE46-CC121AB77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CB0B1-983A-4BFA-BDB3-0D7CB609A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1F3F3-8598-4E02-91D1-BC2CC6CDC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40663-A50C-49F2-8A39-FAF56DD02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3B714-721C-4B3E-8402-72AC30D7F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B2109-9854-429D-81AD-0A9E174AD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AF2DE-923A-447B-BD6D-461512E64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E166D-0620-44D5-BED7-2475D8FAA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D284E-6BDD-4C4C-AE8D-B5DC54C51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22B2-0C14-4988-8626-D241B8DAC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8055F-4EFD-4658-A878-C88A7E373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52EBF-0CF3-4A76-B104-901C752A6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14092-3B93-48CF-8939-6CC2A455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1B8E7-872E-4824-A5F8-D9D86055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28D43-E951-42F3-BA41-D478E226A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2ED2C-7B39-4E75-A334-28035E9BD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EFB26-1722-42E5-A8A2-BFCAFC680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0D16A-067F-46A4-B68C-838540184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401EB-2494-4ADD-8382-32B235C46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73418-12FB-4B87-AC84-F1DD56DB8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CFC1-9A78-40AA-A2A0-B9A78DB2D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60042-3511-4D84-BC1B-280760CEB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6C123-4294-4B3E-9AFE-6255D7B5B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85A22-8054-4DCA-819B-B09FE37E8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75201-E0ED-43E5-B5B7-57318C73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E8F0F-94B9-4B50-8609-4730F0B8D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7E7C9-E3EA-4081-B886-C8ECE0601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1E5EE-4658-41CD-8001-51B01C49F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1A1E2-B2C3-4EDC-BDCA-4049F249F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239EF-3226-4F2C-AF43-ACBB2031D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E3EE3-E649-4FD6-B190-D49E3909F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F8BF-96DC-4261-B468-30E7B9B9B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F5474-DB62-4896-BF99-4C44AE4B6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3F885-9DF6-4CC6-A669-9B0502ACE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798A0-D8B9-47F8-9BA1-294B5348B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1BFF6-5297-4FB7-9936-D71AF1920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E7805-1B0B-42B3-A5C7-C2C448660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7785B1-E1E1-48D2-974D-25A87AA04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BCEADC-E9B9-4010-B534-8DDA962A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7DFA4-AEFD-4752-91F8-C573847E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32CFF-5330-4994-919B-D702849BD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8D7DFF-A4BE-4CED-B88E-5D94F13F0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45E3-9EC0-4419-9DD3-897800027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D14627-0AED-439D-9DFC-646A733EB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1EBEFB-274F-445D-92CC-EDDE82E23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F07E68-9032-456D-B289-3EAD360B9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3BA3EB-7FAF-4AE7-8711-691C984A0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DD153F-3F5B-43AA-A853-E8433618D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9D5C4F-E771-4DA1-A8B1-BE5485F36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3F602A-4CEC-4F01-AA2B-05E45DA64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2D8F17-BECF-4F82-9BFC-9FA09E2F4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32166D-FE78-436F-A8F4-896590F5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153691-B989-4B15-9B2E-BE924A7F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7430-FC76-4F75-B222-379EB57A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D1E252-4A31-4A4C-9F96-88E4B2F40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E42E66-7EC9-4A7F-BD1D-0CDA0EC54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BE13B3-E598-4B3B-9272-79A11808C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9402EC-9027-47CA-B242-581C9AED8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0E66ED-B59C-4879-91C6-647699540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DEF6F0-099B-4E00-A447-A43BBD6D7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4F3506-93D6-41E2-9834-B1FDD9C6C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082889-F3A0-4A1F-B437-BC91731FB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2339D7-44A6-4EAB-B746-C78C9E6DD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8FC44B-973F-4132-B70A-6D329E61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9645-5D80-463B-8EE1-872A4DCF7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47EF8D-8440-4825-A06D-112DCAB0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46E099-6507-406A-A15B-9F0EF6797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503C8C-40E5-45FD-8148-30799F4D2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13534E-461A-49EE-8531-39A6B740A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E95C00-E80F-47ED-B7BC-F3E003B15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3258-0637-4507-890A-668B698A0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7050E-A53A-4FDF-B0BF-5E8079B3CE1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F83D1-474B-4500-AA9A-0C2FFBCCBBE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380FC-5AE2-49E7-9E05-550C9D34E5B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ABF3D-D17E-4D25-A7F5-59A274BCE60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8404B-AFEC-4FD5-9D0E-E2B462D4F3B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B6573-FBA3-4FC2-A0B3-A779CF3DE0F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39601-CE63-4B61-A918-2D83F4F0CED0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72314"/>
                </a:solidFill>
                <a:latin typeface="Tempus Sans ITC"/>
              </a:rPr>
              <a:t>Ethnography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431720" y="2362320"/>
            <a:ext cx="7407000" cy="22096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72314"/>
                </a:solidFill>
                <a:latin typeface="Tempus Sans ITC"/>
              </a:rPr>
              <a:t>Shahaduz Zaman Ph.D.</a:t>
            </a:r>
            <a:br>
              <a:rPr sz="2800"/>
            </a:br>
            <a:r>
              <a:rPr b="1" lang="en-US" sz="2800" spc="-1" strike="noStrike">
                <a:solidFill>
                  <a:srgbClr val="572314"/>
                </a:solidFill>
                <a:latin typeface="Tempus Sans ITC"/>
              </a:rPr>
              <a:t>Newcastle University, UK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But how to learn what to watch and listen for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How to  move the level of ordinary looking into rigor of systematic seeing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Gill Sans MT"/>
              </a:rPr>
              <a:t>Paris is the the capital of France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br>
              <a:rPr sz="4300"/>
            </a:b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  ……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.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People only see what they are        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       prepared to see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An Exercise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72314"/>
                </a:solidFill>
                <a:latin typeface="Gill Sans MT"/>
              </a:rPr>
              <a:t>Important for Ethnography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Gaining an acces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Taking a ro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2" descr="http://image.slidesharecdn.com/ethnography1-100531004106-phpapp02/95/slide-3-728.jpg?1275285428"/>
          <p:cNvPicPr/>
          <p:nvPr/>
        </p:nvPicPr>
        <p:blipFill>
          <a:blip r:embed="rId1"/>
          <a:stretch/>
        </p:blipFill>
        <p:spPr>
          <a:xfrm>
            <a:off x="1066680" y="76320"/>
            <a:ext cx="79250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2" descr="http://image.slidesharecdn.com/ethnography1-100531004106-phpapp02/95/slide-4-728.jpg?1275285428"/>
          <p:cNvPicPr/>
          <p:nvPr/>
        </p:nvPicPr>
        <p:blipFill>
          <a:blip r:embed="rId1"/>
          <a:stretch/>
        </p:blipFill>
        <p:spPr>
          <a:xfrm>
            <a:off x="1066680" y="0"/>
            <a:ext cx="8077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572314"/>
                </a:solidFill>
                <a:latin typeface="Times New Roman"/>
              </a:rPr>
              <a:t>   …………</a:t>
            </a:r>
            <a:r>
              <a:rPr b="0" lang="en-US" sz="4000" spc="-1" strike="noStrike">
                <a:solidFill>
                  <a:srgbClr val="572314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In an ethnographic research   </a:t>
            </a:r>
            <a:br>
              <a:rPr sz="3200"/>
            </a:b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    the researcher is called </a:t>
            </a:r>
            <a:r>
              <a:rPr b="1" lang="en-US" sz="3200" spc="-1" strike="noStrike">
                <a:solidFill>
                  <a:srgbClr val="572314"/>
                </a:solidFill>
                <a:latin typeface="Times New Roman"/>
              </a:rPr>
              <a:t>‘Participant </a:t>
            </a:r>
            <a:br>
              <a:rPr sz="3200"/>
            </a:br>
            <a:r>
              <a:rPr b="1" lang="en-US" sz="3200" spc="-1" strike="noStrike">
                <a:solidFill>
                  <a:srgbClr val="572314"/>
                </a:solidFill>
                <a:latin typeface="Times New Roman"/>
              </a:rPr>
              <a:t>    Observer’.</a:t>
            </a: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 There are various level of    </a:t>
            </a:r>
            <a:br>
              <a:rPr sz="3200"/>
            </a:b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    observation</a:t>
            </a:r>
            <a:br>
              <a:rPr sz="4000"/>
            </a:br>
            <a:br>
              <a:rPr sz="4000"/>
            </a:br>
            <a:br>
              <a:rPr sz="3200"/>
            </a:b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mplete observ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mplete participa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bserver as participa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articipant as observ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Complete Observer:</a:t>
            </a:r>
            <a:r>
              <a:rPr b="1" lang="en-GB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  <a:ea typeface="宋体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  <a:ea typeface="宋体"/>
              </a:rPr>
              <a:t>you will watch the situation without interacting with the day to day activ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Complete Participant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  <a:ea typeface="宋体"/>
              </a:rPr>
              <a:t>you participate completely in all things the people do and will not be known in the community as a researcher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1720" y="1447920"/>
            <a:ext cx="7407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72314"/>
                </a:solidFill>
                <a:latin typeface="Gill Sans MT"/>
              </a:rPr>
              <a:t>Ethno (People) Graphy (describing/writing)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20e04"/>
                </a:solidFill>
                <a:latin typeface="Gill Sans MT"/>
              </a:rPr>
              <a:t>Writing about People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Participant as Observer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  <a:ea typeface="宋体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  <a:ea typeface="宋体"/>
              </a:rPr>
              <a:t>you will be fully involved in the daily activities but will take time to record observation.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Observer as Participant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  <a:ea typeface="宋体"/>
              </a:rPr>
              <a:t>you will primarily watch the situation but will also be involved in activities on a secondary basi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" descr="http://image.slidesharecdn.com/ethnography1-100531004106-phpapp02/95/slide-9-728.jpg?1275285428"/>
          <p:cNvPicPr/>
          <p:nvPr/>
        </p:nvPicPr>
        <p:blipFill>
          <a:blip r:embed="rId1"/>
          <a:stretch/>
        </p:blipFill>
        <p:spPr>
          <a:xfrm>
            <a:off x="1295280" y="304920"/>
            <a:ext cx="739152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Open Space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Shopping mal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Restaura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Stre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Local bazar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Close  Spac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Schoo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Hospita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Corporate offi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Religious centre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fter deciding about th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evel of particip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ur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tes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oments and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cus of observation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thnographer should enter the setting and start carefully watching and listen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ere is a clue to help you…..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572314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I keep six honest serving men</a:t>
            </a:r>
            <a:br>
              <a:rPr sz="3200"/>
            </a:b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They taught me all I knew</a:t>
            </a:r>
            <a:br>
              <a:rPr sz="3200"/>
            </a:b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Their names are What &amp; Why &amp; When</a:t>
            </a:r>
            <a:br>
              <a:rPr sz="3200"/>
            </a:b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And How &amp; Where &amp; Who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-R. Kipling</a:t>
            </a:r>
            <a:br>
              <a:rPr sz="3200"/>
            </a:br>
            <a:br>
              <a:rPr sz="3600"/>
            </a:b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572314"/>
                </a:solidFill>
                <a:latin typeface="Gill Sans MT"/>
              </a:rPr>
              <a:t>Observation dimensions: 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434960" y="990720"/>
            <a:ext cx="74995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ERE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0000"/>
                </a:solidFill>
                <a:latin typeface="Calibri"/>
              </a:rPr>
              <a:t>Space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: Physical layout of the plac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0000"/>
                </a:solidFill>
                <a:latin typeface="Calibri"/>
              </a:rPr>
              <a:t>Object: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The physical things that are prese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0000"/>
                </a:solidFill>
                <a:latin typeface="Calibri"/>
              </a:rPr>
              <a:t>Actor: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 Ranges of people involve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AT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0000"/>
                </a:solidFill>
                <a:latin typeface="Calibri"/>
              </a:rPr>
              <a:t>Act: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Single actions people undertak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0000"/>
                </a:solidFill>
                <a:latin typeface="Calibri"/>
              </a:rPr>
              <a:t>Activity: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 A set of related acts that occu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E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0000"/>
                </a:solidFill>
                <a:latin typeface="Calibri"/>
              </a:rPr>
              <a:t>Time: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ime of the day, duration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0000"/>
                </a:solidFill>
                <a:latin typeface="Calibri"/>
              </a:rPr>
              <a:t>Goal :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hings that people are trying to accomplish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OW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0000"/>
                </a:solidFill>
                <a:latin typeface="Calibri"/>
              </a:rPr>
              <a:t>Sequence: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 Order of activities and it’s interrel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Observing self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mpression manageme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ecoming invisib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rofessional Stranger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34960" y="136080"/>
            <a:ext cx="7499520" cy="6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434960" y="914040"/>
            <a:ext cx="7499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Unlike interviews, in which  the researcher extracts data from the respondent, the ethnographer selects data from the naturally occurring flow of life.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The idea that we collect data is a bit misleading. Data are not “out there” waiting for collection, like so many rubbish bags on the pavement. For a start they have to be noticed by the researcher, and treated as data for the purpose of his or her research.” Dey (1993)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Stages of observation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Gill Sans MT"/>
                <a:ea typeface="宋体"/>
              </a:rPr>
              <a:t>Grand tour observ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First wonder around the general location keeping the  focus of your study. 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Gill Sans MT"/>
                <a:ea typeface="宋体"/>
              </a:rPr>
              <a:t>Mini tour observ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Then observe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‘</a:t>
            </a:r>
            <a:r>
              <a:rPr b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smaller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’</a:t>
            </a:r>
            <a:r>
              <a:rPr b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 issues (space, actor, activity, objects etc)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Gill Sans MT"/>
                <a:ea typeface="宋体"/>
              </a:rPr>
              <a:t>Selective observ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Finally observe the detail aspects of the setting according to your study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72314"/>
                </a:solidFill>
                <a:latin typeface="Gill Sans MT"/>
              </a:rPr>
              <a:t>Defining ethnography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34960" y="914040"/>
            <a:ext cx="7499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thnography is the art and science of describing a group or culture. ……..The ethnographer is interested in understanding and describing a social and cultural scene from the emic or insider’s perspective. The ethnographer is both story teller and scientist.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(Fetternam:1998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thnography is a method of research in which the researcher participates overtly or covertly, in people’s daily live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atching what happe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istening to what is being sai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sking questions (Hamersley &amp; Atkinson: 2006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76960" indent="-226080"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76960" indent="-226080"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572314"/>
                </a:solidFill>
                <a:latin typeface="Gill Sans MT"/>
              </a:rPr>
              <a:t>It is crucial to keep observation notes</a:t>
            </a:r>
            <a:endParaRPr b="0" lang="en-US" sz="31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ill Sans MT"/>
                <a:ea typeface="宋体"/>
              </a:rPr>
              <a:t>Cryptic Jotting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Record key words and key phrases while in the field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ill Sans MT"/>
                <a:ea typeface="宋体"/>
              </a:rPr>
              <a:t>Detailed description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Write full notes immediately after exiting the fiel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ill Sans MT"/>
                <a:ea typeface="宋体"/>
              </a:rPr>
              <a:t>Analytical notes (Memo)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Describe your feelings, ideas, moments of confusion, and interpretations about what is observed.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2314"/>
                </a:solidFill>
                <a:latin typeface="Gill Sans MT"/>
              </a:rPr>
              <a:t>Skills of participant observant:</a:t>
            </a:r>
            <a:br>
              <a:rPr sz="3200"/>
            </a:b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Building explicit awareness of little details of lif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Building memor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Maintaining Naiveté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Building writing skill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72314"/>
                </a:solidFill>
                <a:latin typeface="Gill Sans MT"/>
              </a:rPr>
              <a:t>‘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Empathic Neutrality’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Enter into the world. Observe and 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wonder. Experience and reflect. To 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understand a world you must become a 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part of that world while at the same 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time remaining separate, a part of and 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apart from. </a:t>
            </a:r>
            <a:br>
              <a:rPr sz="3200"/>
            </a:b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1" i="1" lang="en-US" sz="2400" spc="-1" strike="noStrike">
                <a:solidFill>
                  <a:srgbClr val="572314"/>
                </a:solidFill>
                <a:latin typeface="Gill Sans MT"/>
              </a:rPr>
              <a:t>Indian Sufi Saying </a:t>
            </a:r>
            <a:r>
              <a:rPr b="1" i="1" lang="en-US" sz="2400" spc="-1" strike="noStrike">
                <a:solidFill>
                  <a:srgbClr val="572314"/>
                </a:solidFill>
                <a:latin typeface="Gill Sans MT"/>
              </a:rPr>
              <a:t>	</a:t>
            </a:r>
            <a:br>
              <a:rPr sz="2400"/>
            </a:br>
            <a:br>
              <a:rPr sz="3200"/>
            </a:b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72314"/>
                </a:solidFill>
                <a:latin typeface="Gill Sans MT"/>
              </a:rPr>
              <a:t>New Styles of Ethnography 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Videography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Auto ethnograph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Netnograph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572314"/>
                </a:solidFill>
                <a:latin typeface="Gill Sans MT"/>
              </a:rPr>
              <a:t>Referenc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Atkinson P, Coffey A, Delamont</a:t>
            </a:r>
            <a:r>
              <a:rPr b="0" lang="en-GB" sz="2400" spc="-1" strike="noStrike" baseline="30000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S, Lofland J, Lofland L, eds. </a:t>
            </a:r>
            <a:r>
              <a:rPr b="0" i="1" lang="en-GB" sz="2400" spc="-1" strike="noStrike">
                <a:solidFill>
                  <a:srgbClr val="000000"/>
                </a:solidFill>
                <a:latin typeface="Gill Sans MT"/>
              </a:rPr>
              <a:t>Handbook of ethnography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. London:</a:t>
            </a:r>
            <a:r>
              <a:rPr b="0" lang="en-GB" sz="2400" spc="-1" strike="noStrike" baseline="30000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Sage, 2001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Dey, Ian. 1993. </a:t>
            </a:r>
            <a:r>
              <a:rPr b="0" i="1" lang="en-GB" sz="2400" spc="-1" strike="noStrike">
                <a:solidFill>
                  <a:srgbClr val="000000"/>
                </a:solidFill>
                <a:latin typeface="Gill Sans MT"/>
              </a:rPr>
              <a:t>Qualitative data analysis. London: Routledg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Fetterman D. </a:t>
            </a:r>
            <a:r>
              <a:rPr b="0" i="1" lang="en-GB" sz="2400" spc="-1" strike="noStrike">
                <a:solidFill>
                  <a:srgbClr val="000000"/>
                </a:solidFill>
                <a:latin typeface="Gill Sans MT"/>
              </a:rPr>
              <a:t>Ethnography: step by step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. 2nd ed.</a:t>
            </a:r>
            <a:r>
              <a:rPr b="0" lang="en-GB" sz="2400" spc="-1" strike="noStrike" baseline="30000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London: Sage, 1988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Hammersley M, Atkinson</a:t>
            </a:r>
            <a:r>
              <a:rPr b="0" lang="en-GB" sz="2400" spc="-1" strike="noStrike" baseline="30000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P. </a:t>
            </a:r>
            <a:r>
              <a:rPr b="0" i="1" lang="en-GB" sz="2400" spc="-1" strike="noStrike">
                <a:solidFill>
                  <a:srgbClr val="000000"/>
                </a:solidFill>
                <a:latin typeface="Gill Sans MT"/>
              </a:rPr>
              <a:t>Ethnography: principles in practice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. 2nd ed. London: Routledge,</a:t>
            </a:r>
            <a:r>
              <a:rPr b="0" lang="en-GB" sz="2400" spc="-1" strike="noStrike" baseline="30000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1995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97920"/>
            <a:ext cx="7499520" cy="6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685800"/>
            <a:ext cx="7499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Ethnography is a methodology with more than 100 years of history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It arose in the Western world as form of knowledge about distant cultures(typically non-Western culture)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This was historically a colonial method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Changed over time: ‘Anthropology at home’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72314"/>
                </a:solidFill>
                <a:latin typeface="Gill Sans MT"/>
              </a:rPr>
              <a:t>Malinowski in New Guinea (1916)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4" name="Content Placeholder 3" descr="Malinowski.bmp"/>
          <p:cNvPicPr/>
          <p:nvPr/>
        </p:nvPicPr>
        <p:blipFill>
          <a:blip r:embed="rId1"/>
          <a:stretch/>
        </p:blipFill>
        <p:spPr>
          <a:xfrm>
            <a:off x="1905120" y="1981080"/>
            <a:ext cx="6629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6" name="Content Placeholder 3" descr="Fieldwork.bmp"/>
          <p:cNvPicPr/>
          <p:nvPr/>
        </p:nvPicPr>
        <p:blipFill>
          <a:blip r:embed="rId1"/>
          <a:stretch/>
        </p:blipFill>
        <p:spPr>
          <a:xfrm>
            <a:off x="1905120" y="1600200"/>
            <a:ext cx="60958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Ethnographic methodology gives priority to observation as it’s primary source of information.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In other words, it’s a knowledge gathering process through observation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Any professional work is dependent upon the powers of observation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Why do we need to observe in ethnography?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900"/>
            </a:br>
            <a:br>
              <a:rPr sz="2900"/>
            </a:br>
            <a:endParaRPr b="0" lang="en-US" sz="2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  <a:ea typeface="宋体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Observational method provide data on what people do, as well as what they say they do.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It helps to get an inside view of everyday reality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Gives chance to learn things that people are unwilling to talk in interview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4T17:15:32Z</dcterms:created>
  <dc:creator>Neeor</dc:creator>
  <dc:description/>
  <dc:language>en-US</dc:language>
  <cp:lastModifiedBy>Zaman</cp:lastModifiedBy>
  <dcterms:modified xsi:type="dcterms:W3CDTF">2013-12-11T21:35:34Z</dcterms:modified>
  <cp:revision>96</cp:revision>
  <dc:subject/>
  <dc:title>Ethnography  Describing people in their natural setting</dc:title>
</cp:coreProperties>
</file>